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94B-8298-4996-9139-0ED61248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9BB-78D4-40D1-A3ED-C9C7681F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F7F-A55B-45AE-A8DD-70B1CFE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525-B966-4C77-80AD-4F86A91D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79EC-1E24-4C60-95B3-E5260622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2A54-E414-4711-AFF9-28069D1E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8CF8-E17C-4269-9C99-61D9FF2E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64FB-4DEB-42FC-86F0-E83D6B6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8947-D8C0-476A-BEF1-BD2388F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BE9D-2B94-4121-A716-E6D0E43F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31EA-FD00-488B-8120-F01594C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77E-A6F4-448D-83E9-D1492915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EDB-FE97-4BFB-9058-1D2C2AC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151-3D55-4B4B-A35B-BC6BF382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A979-BE37-48AB-AF5A-6B69BE78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CBD1-BA1C-4D61-9EAD-C0DDE868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D57-2D60-413B-892D-2817BEBF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586-DE96-4D10-8056-86417A2F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832-7EA3-452D-AD29-AD65FF5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96E-2E32-48FE-A94C-0D237F5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F68-61EB-4903-987D-1E05B17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DB8-A08A-480E-8E42-B91D52C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015-1E07-4FC2-8C5F-CE7070E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83E-80E2-4280-A693-3DE99BB3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gradFill rotWithShape="0">
            <a:gsLst>
              <a:gs pos="0">
                <a:srgbClr val="004e00"/>
              </a:gs>
              <a:gs pos="100000">
                <a:srgbClr val="007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62870" r="26371" b="7150"/>
          <a:stretch/>
        </p:blipFill>
        <p:spPr>
          <a:xfrm>
            <a:off x="0" y="-2700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C10B-6281-4FB6-B11D-7117A9846F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gradFill rotWithShape="0">
            <a:gsLst>
              <a:gs pos="0">
                <a:srgbClr val="003800"/>
              </a:gs>
              <a:gs pos="100000">
                <a:srgbClr val="007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62870" r="26371" b="7150"/>
          <a:stretch/>
        </p:blipFill>
        <p:spPr>
          <a:xfrm>
            <a:off x="0" y="-2700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3C2-3D5D-4EA4-A698-A4C9315F97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4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7777080" cy="410364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grammazione 2007-2013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Gruppo Tecnico “Obiettivo 3” </a:t>
            </a:r>
            <a:br>
              <a:rPr sz="3200"/>
            </a:br>
            <a:br>
              <a:rPr sz="3200"/>
            </a:b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Programma Operativo</a:t>
            </a:r>
            <a:br>
              <a:rPr sz="3600"/>
            </a:b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“Spazio Alpino” 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Luca SANTAROSSA – National Contact Point</a:t>
            </a:r>
            <a:r>
              <a:rPr b="1" lang="fr-FR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ccff99"/>
                </a:solidFill>
                <a:latin typeface="Arial"/>
              </a:rPr>
              <a:t>Cosa non é più possibile? </a:t>
            </a:r>
            <a:br>
              <a:rPr sz="3600"/>
            </a:br>
            <a:endParaRPr b="1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7672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Attività di scambio/trasferimento di network e conoscenze come principale obiettiv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rogetti di studio (indipendenti da implementazion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Somma di attività con un impatto esclusivamente lo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Grandi investi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ccff99"/>
                </a:solidFill>
                <a:latin typeface="Arial"/>
              </a:rPr>
              <a:t>In breve:</a:t>
            </a:r>
            <a:r>
              <a:rPr b="1" lang="en-GB" sz="40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Legami migliori con gli altri programmi (Ob. 1 e 2, altri programmi dell’Ob. 3 e programmi nazionali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Migliore coordinazione tra i diversi livelli della gestione progettu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Incremento della capacità per una gestione strategica del program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Maggiore incidenza e visibilità dei risultat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&gt; comunicazione più profession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99"/>
                </a:solidFill>
                <a:latin typeface="Arial"/>
              </a:rPr>
              <a:t>Priorità 1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47920"/>
            <a:ext cx="8445600" cy="500544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Arial"/>
              </a:rPr>
              <a:t>3.1. Priorità 1: competitività e attrattività dello Spazio Alpi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6600"/>
                </a:solidFill>
                <a:uFillTx/>
                <a:latin typeface="Arial"/>
              </a:rPr>
              <a:t>Obiettivi</a:t>
            </a: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Rafforzare la capacità d’innovazione delle PMI, creando un ambiente favorevole e stabilizzando la relazione con i centri di ricer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Rafforzare le possibilità di sviluppo basate sui settori tradizionali e sul patrimonio culturale, e sui settori emergenti a livello transnazion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Rafforzare il ruolo delle aree urbane quali motori di sviluppo sostenib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6600"/>
                </a:solidFill>
                <a:uFillTx/>
                <a:latin typeface="Arial"/>
              </a:rPr>
              <a:t>Settori di intervento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Stimolo all’innovazi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Riduzione delle disparità socio-economiche, culturali, territorial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Diversificazione delle attività economi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99"/>
                </a:solidFill>
                <a:latin typeface="Arial"/>
              </a:rPr>
              <a:t>Priorità 2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47920"/>
            <a:ext cx="8445600" cy="500544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Arial"/>
              </a:rPr>
              <a:t>3.2. Priorità 2: accessibilità e connettivit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6600"/>
                </a:solidFill>
                <a:uFillTx/>
                <a:latin typeface="Arial"/>
              </a:rPr>
              <a:t>Obiettivi</a:t>
            </a:r>
            <a:r>
              <a:rPr b="1" lang="de-DE" sz="1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Assicurare un libero accesso ai servizi pubblici, trasporto, informazione e infrastrut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Promuovere e migliorare l’accesso e l’utilizzo delle strutture esistenti per ottimizzare i benefici socio-economici e ridurre gli impatti ambienta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Sostenere la connettività per rafforzare il policentrismo e una società basata sulle conoscen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Promuovere la mobilità sostenibile ed innovati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Mitigare gli impatti dei transiti nell’area alp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6600"/>
                </a:solidFill>
                <a:uFillTx/>
                <a:latin typeface="Arial"/>
              </a:rPr>
              <a:t>Settori di intervento</a:t>
            </a: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Accessibilità e connettività con soluzioni sostenibi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Mitigazione degli effetti negativi del traffi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Soluzioni innovative per la mobilit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99"/>
                </a:solidFill>
                <a:latin typeface="Arial"/>
              </a:rPr>
              <a:t>Priorità 3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45240" cy="500544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Arial"/>
              </a:rPr>
              <a:t>3.3. Priorità 3: Ambiente e prevenzione del risch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6600"/>
                </a:solidFill>
                <a:uFillTx/>
                <a:latin typeface="Arial"/>
              </a:rPr>
              <a:t>Obiettivi</a:t>
            </a:r>
            <a:r>
              <a:rPr b="1" lang="de-DE" sz="1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Rafforzare la copperazione per la protezione ambient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Stimolare un approccio integrato alla conservazione, pianificazione e gestione delle risorse naturali e del paesaggio cultur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Sostenere il potenziamento dell’efficienza energet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Affrontare gli effetti del cambiamento climati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Prevedere, mitigare e gestire gli impatti del rischio naturale e tecnologi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6600"/>
                </a:solidFill>
                <a:uFillTx/>
                <a:latin typeface="Arial"/>
              </a:rPr>
              <a:t>Settori di intervento</a:t>
            </a: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Tutela e utilizzo appropriato del patrimonio natur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Tutela e gestione sostenibile della risorsa acq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Riduzione degli effetti del cambiamento climati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Mitigazione dei rischi naturali e tecnologic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Promozione dell’uso di risorse energetiche endoge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99"/>
                </a:solidFill>
                <a:latin typeface="Arial"/>
              </a:rPr>
              <a:t>Le strutture di gestione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47920"/>
            <a:ext cx="8445600" cy="500544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Comitato di Program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Autorità di Gest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Autorità di Certific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Autorità di Contr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Segretariato Tecnico Congiu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Alpine Space Contact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Coordinatore Nazion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Task Force transna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2055960"/>
            <a:ext cx="7705800" cy="480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99"/>
                </a:solidFill>
                <a:latin typeface="Arial"/>
              </a:rPr>
              <a:t>L’area eleggi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07280" cy="410364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7 Paesi (5 UE + 2 non UE), 7 Regioni italiane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Managing Authority: Land Salisburgo (Austria) </a:t>
            </a:r>
            <a:br>
              <a:rPr sz="2400"/>
            </a:b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Joint Technical Secretariat: Rosenheim (Germania)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Totale risorse 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(75% FESR + 25% Cof.Naz.):</a:t>
            </a: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130 Mio (Paesi UE) + 4,5 Mio (non UE)</a:t>
            </a:r>
            <a:br>
              <a:rPr sz="2400"/>
            </a:b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P.1 33%, P.2 28%, P.3 33%, P.4 (AT) 6%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Contributo Italia: 48 Mio 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(FESR+Cof.Naz.),</a:t>
            </a: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 37% del totale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93160" y="4356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55736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99"/>
                </a:solidFill>
                <a:latin typeface="Arial"/>
              </a:rPr>
              <a:t>Descrizione gene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7777080" cy="410364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Prospective Study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autunno 2005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ostituzione Task Force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febbraio 2006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Selezione esperti esterni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marzo 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Costituzione Gruppi di Lavoro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aprile 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Alpine Space Summit (Stresa)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giugno 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Approvazione nazionale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febbraio 2007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Presentazione alla CE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marzo 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Decisione CE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maggio (stima)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1° bando per progetti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autunno (stima)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99"/>
                </a:solidFill>
                <a:latin typeface="Arial"/>
              </a:rPr>
              <a:t>Il perco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99"/>
                </a:solidFill>
                <a:latin typeface="Arial"/>
              </a:rPr>
              <a:t>Indicazioni dalla Commissione Europea</a:t>
            </a: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708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00"/>
                </a:solidFill>
                <a:latin typeface="Arial"/>
              </a:rPr>
              <a:t>Realizzazione degli obiettivi di Lisbona e Gothen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00"/>
                </a:solidFill>
                <a:latin typeface="Arial"/>
              </a:rPr>
              <a:t>Preparazione di progetti con investimenti maggiori (Ob. 1, Ob. 2, Fondo di coesio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GB" sz="2200" spc="-1" strike="noStrike">
                <a:solidFill>
                  <a:srgbClr val="006600"/>
                </a:solidFill>
                <a:latin typeface="Arial"/>
              </a:rPr>
              <a:t>Attività mono-settoriali“ (ad es. piani di sviluppo dei trasport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00"/>
                </a:solidFill>
                <a:latin typeface="Arial"/>
              </a:rPr>
              <a:t>Sostegno alle PMI (cluster e collegamento con la ricerc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00"/>
                </a:solidFill>
                <a:latin typeface="Arial"/>
              </a:rPr>
              <a:t>Soluzioni modello e scambio di conoscenze in I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99"/>
                </a:solidFill>
                <a:latin typeface="Arial"/>
              </a:rPr>
              <a:t>Obiettivi del Programma</a:t>
            </a: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708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Incoraggiare l’innovazione, l’imprenditorialità e rafforzare la ricerca per le PM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Sostenere uno sviluppo territoriale equilibrato per rendere lo spazio alpino un luogo attraente per vivere, lavorare, invest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igliorare l’accessibilità dello spazio alpino e gestire gli impatti economici ed ambientali del sistema dei traspor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igliorare l’accessibilità ai servizi e la connettività all’interno dello spazio alpi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Tutelare, gestire e rafforzare le risorse della diversità naturale e culturale per uno sviluppo sostenib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Prevenire e mitigare i disastri naturali e tecnologici e gestirne le conseguenze, con una speciale attenzione agli impatti dei cambiamenti climati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99"/>
                </a:solidFill>
                <a:latin typeface="Arial"/>
              </a:rPr>
              <a:t>Strategia</a:t>
            </a: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5960" t="25524" r="14885" b="41245"/>
          <a:stretch/>
        </p:blipFill>
        <p:spPr>
          <a:xfrm>
            <a:off x="755640" y="1690560"/>
            <a:ext cx="77040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ff99"/>
                </a:solidFill>
                <a:latin typeface="Arial"/>
              </a:rPr>
              <a:t>Requisiti per i “progetti strategici”</a:t>
            </a:r>
            <a:endParaRPr b="1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solidFill>
            <a:srgbClr val="f3fea0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Maggiore attenzione allo sviluppo del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Esperienza nella gestione dei progetti transna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Ampia partnership (verticale, orizzontale, settoria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Coinvolgimento diretto dei responsabi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Supporto (politico) a livello </a:t>
            </a: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nazion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Impatto sull’intera area di cooperazione (o su zone significa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Garanzia sulla sopravvivenza dei risultati dopo il consolidam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ff99"/>
                </a:solidFill>
                <a:latin typeface="Arial"/>
              </a:rPr>
              <a:t>Procedura “2 step”</a:t>
            </a:r>
            <a:endParaRPr b="1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42920" y="1454040"/>
            <a:ext cx="67690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4:29:48Z</dcterms:created>
  <dc:creator>Magdalena Maislinger</dc:creator>
  <dc:description/>
  <dc:language>en-US</dc:language>
  <cp:lastModifiedBy>min. infrastrutture</cp:lastModifiedBy>
  <cp:lastPrinted>2002-11-11T17:47:29Z</cp:lastPrinted>
  <dcterms:modified xsi:type="dcterms:W3CDTF">2007-02-28T15:38:51Z</dcterms:modified>
  <cp:revision>187</cp:revision>
  <dc:subject/>
  <dc:title>How to run a project -</dc:title>
</cp:coreProperties>
</file>